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DEF1-3965-4DDB-835F-2C95A5B6C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D8BB-5F3C-4B96-98F1-DBD3D7F0C1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C9D-BCDA-4E0C-BB48-6BC306A0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488-64D5-46F3-85BC-D4C3F2BC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2F6-63AD-4D17-A146-11398557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00D-2847-40F5-B514-CEA7062C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84DA-329A-4D0B-9006-E4E69858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5629-4CD0-4625-ACA0-DF1C6748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2FEC-6683-4BF4-901B-1D41C578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28F3-549B-45B6-B25E-B8925327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AC32-0B31-4228-8D7F-37AE37CB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4FC1-8F5D-4362-8A65-CC80EE50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5AF3-6A28-458C-A096-B869AD59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A2E-45F6-46F5-BCF2-C375B001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F158-3A53-44D3-B1A0-FACA5B63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6726-32B8-4CBE-92D8-0D084D9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62B7-1CBD-44A9-BA2E-99916927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B56D-4027-4CF9-819F-7E276E97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C18D-B389-4AC1-95DE-F68BAAB0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43B3-3DE6-4379-A975-0A07501E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2FDC3-9518-4837-9605-801984CB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6DCC-703E-4843-9209-0BF53F90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4C17-1E4D-4C1C-9817-B904D2CD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D073-1E27-4898-8BE6-578886CA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D1C-0CC2-482B-98C3-D94E6CCA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E40C-344F-4941-A07C-45E9B585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A7912-4E46-4644-BAD1-1BFDE6C3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B284-18CC-4876-8FC0-CD5FE316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2044B-5C51-4EAB-BC2C-F415B73D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B9CF-50B2-4485-A7BD-799A52E3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0F0B-9AFB-4F31-8361-00268546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034F-ECE8-4449-9321-4AC79ED8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0C78-CBE9-4361-8A4A-B0A8EF2D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B7B36-DE97-448E-BD24-944C7C85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2D75B-B4FD-4609-AD38-47F591F9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370-487C-4951-AC12-07701F77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2C336-E7D4-40BB-8538-BA01124C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23C8-0548-4A2F-9A36-BDC3B8BC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367D2-A609-4B20-AE16-8A2588CA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9932A-93D4-41E5-87F7-595A9511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3F85A-E940-4A9B-84D4-0E0838F6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3978-898D-42E6-8E0C-37893C80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B047-FB16-4853-9F58-C48D9EFE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9C630-4617-4822-8570-8F2AF553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00EF-9C02-4B07-AA75-7CDDC371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49BF-4559-4158-B0DA-28294289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AEF-1A95-40DE-AC29-826073DD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FB57F-DBA1-4E0E-A1B1-CE78D27D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B1DB-ECA9-4E4B-AD66-D9D93363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028D7-4430-4F3A-B530-31BB18F2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4046A-DA70-4FFC-B793-DBE6042C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3A896-ED49-44DA-9AC8-41A3794C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91F34-6F93-457A-95AB-D9A1CA10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2CB7B-A461-4583-BD1A-ADE6B732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375D-E4BA-4E19-A40D-05B4E936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2A607-8827-462D-A2AB-7017B3D9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1C2C0-C3BA-4980-B459-2044587E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E92-8257-4128-A7F8-CE4BA48A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C963E-BABB-44FB-8B8A-E159FA2D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62504-2363-4EC9-8000-CC28694D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FCE58-EDBD-4EC1-B1D7-9DDF525A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C3C6F-C8D2-480A-8060-FEFE273C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AC5E8-D456-426C-B08C-5842007F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A766-5926-422B-9B37-6DDD064C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0100A-A0DA-4484-A693-980314D8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36E87-00C7-4F1F-90DE-FF2A419D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940E7-EA7E-46A3-B0FA-7C0F8711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F4384-AE2D-4D9B-A451-C4F38BE6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503-3F5E-48B8-93A4-C1437E63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E6C6A-CBD7-4B0E-BC70-18FB1ED0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662C9-B900-4BF2-9C32-4D5F41CA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ADA22-6C40-48C6-8B2B-46C3BA23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50F-222E-416F-B80B-847CBC8E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81A-2123-46B4-BC09-44E6C1B4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3385-BC8C-413C-8C82-B6F1EEE3ACF1}" type="slidenum"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FC46-0440-437D-9D23-978CF998A409}" type="slidenum"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C48C-AAE6-4805-827E-7E3578FDDF65}" type="slidenum"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E87A-A1CC-437D-A958-A6852E87C5C4}" type="slidenum"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4A5F-1AE5-40AE-9F8E-24A9D8D9D536}" type="slidenum"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E6D0-3776-4846-A549-1AF8623C6BC3}" type="slidenum"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603360" y="1731960"/>
            <a:ext cx="7113600" cy="27972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3657240"/>
            <a:ext cx="6480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ristina, Peter, Ry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minist Mov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lidary – rely on solidary incentives, composed of middle-class women with relatively high levels of education.  They have the widest support of the different feminist moveme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. LWV – League of Women Vo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rposive – use purpose incentives; have strong positions, tackle divisive issues, and employ militant tac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. NOW – National Organization for Women;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RAL – National Abortion Rights Action Leag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ucus – receive grants from foundations and government agencies; takes on specific issues that have some material benefit to w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. WEAL – Women’s Equity Action Leag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unds and Bi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nterest groups are funded by foundation grants, federal grants and contracts, and direct m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believe that interest groups reflect an upper-class bias because well-off people are more likely to join and be active in groups. Also, there are more interest groups that represent professions and businesses that are better finan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terest Grou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 Any organization that seeks to influence public polic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necessarily composed of individual people, but of offices – corporations, law firms, public relation firms, and “letterhead” organiz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wo kinds: institutional and membership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stitution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individuals/organizations representing other organiz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cerned with “bread and butter issues” of concern to their clien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resent governments, foundations, and universi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mbership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different kinds – social, business, professional, veterans, charitable organizations, labor unions, religious, civic, political,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ed incentives to begi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cen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lidary – social rewards that lead people to join political organizations (sense of pleasure, status, or companionship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erial – money or things valued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pose – benefits that come from serving a cause or princip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deological Interest Grou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ological interest groups are political organizations that attract members by appealing to their political convictions and/or principl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ublic-Interest Lobbi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political organization whose goals will primarily benefit nonmemb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sue noncontroversial goals but often are some of the most controversial group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ocial Mov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widely shared demands for change in some aspect of the social or political ord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different kinds of movements mentioned in the book – environmental, feminist, and un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Environmental and Union Movement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vironmental Movement – first in 1890s because of the conservation issue.  Originally started with the Sierra Club and moved onto other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ion Movement – left over when other social movements have slowed dow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05:49Z</dcterms:created>
  <dc:creator>weberkm</dc:creator>
  <dc:description/>
  <dc:language>en-US</dc:language>
  <cp:lastModifiedBy>kluvere</cp:lastModifiedBy>
  <dcterms:modified xsi:type="dcterms:W3CDTF">2012-03-13T01:05:56Z</dcterms:modified>
  <cp:revision>8</cp:revision>
  <dc:subject/>
  <dc:title>Kinds of Interest Groups</dc:title>
</cp:coreProperties>
</file>